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3F7-06D1-4190-8B71-3C9ED864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052-DF3D-446D-BC84-AD323CC5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4BA-1A40-4913-A1CF-D78ECE2B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37B-75B1-4A8A-B2D5-5891A958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9A2A2-7D26-4DF0-9FA5-FD36FEE7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735CA-107A-4FAE-9E7D-BA704B2F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DA252-CDE8-49AE-AEA3-A1DF631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ED1B-CEA3-4A80-8335-271DE65E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E308D-2EB2-4F1A-9A26-A1A955C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4A43D-8DEE-4938-A235-5CC1B6C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69C07-545F-4750-A193-12A987E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71F-A5C2-4A70-840A-8C4B7052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E3D80-9C83-43EC-BDAC-F70669F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71B18-74D9-4BD4-AB0A-BE1B6E29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1B3F1-E362-4A95-BF66-47ABF956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1BEE7-E87E-4506-A712-4B38121F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860D5-F8D2-4D40-BBBF-930D7EBB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86A-AD8B-4777-89B3-ECAAF0B0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BF3-0C48-47FE-AD7B-6ECE4D27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032-968C-45BF-888C-B6EF9283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E34-540A-4D71-90A9-7456521C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438-DE91-4205-A282-E604FAC4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BA9-B4B7-4453-A28C-95DCC76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DCB-97C4-4611-B733-C530DF1E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6B38-DE93-43DF-8C3E-40607D04F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E54B-1983-4751-8D38-698CA3489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ahoma"/>
              </a:rPr>
              <a:t>Társadalmi Párbeszé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Társadalmi Párbeszé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1349280" cy="180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39337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z Alapszerződés 136-141. paragrafusai szabályozzák az érdekképviseleti szervek részvételét az iparágak lényeges problémáinak megoldásá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Társadalmi Párbeszéd Bizottsá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1440000" cy="154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1562400" cy="1563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657600" y="4114800"/>
            <a:ext cx="1201680" cy="1562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35733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káltatói érdekképvise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1320" y="35733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kavállalói érdekképvise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65320" y="5859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llami képvise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26668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284720" y="2781000"/>
            <a:ext cx="0" cy="1214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Magánbiztonsági ÁPB - E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1440000" cy="154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1201680" cy="1562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Co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NI-Euro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55897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B Munka- és Szociális Ügyek Főigazga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6668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84720" y="2781000"/>
            <a:ext cx="0" cy="12142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21932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lin 1999. június 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715000" y="2057400"/>
            <a:ext cx="1720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Tahoma"/>
              </a:rPr>
              <a:t>Magánbiztonsági ÁPB – M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1440000" cy="154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1201680" cy="1562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528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BVM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SZ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6668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284720" y="2781000"/>
            <a:ext cx="0" cy="12128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1219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dapest, 2004. július 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715000" y="2057400"/>
            <a:ext cx="17208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Eredménye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60956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európai biztonsági őri alapképzés kézikönyve –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gyarra leford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514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kabiztonság és a foglalkozási ártalmak megelőzése a vagyonvédelemben-kézikönyv –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gyarra leford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239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ézikönyv a közbeszerzési pályázatok elbíráláshoz –Best Value – </a:t>
            </a:r>
            <a:r>
              <a:rPr b="1" lang="hu-HU" sz="2400" spc="-1" strike="noStrike">
                <a:solidFill>
                  <a:srgbClr val="ffcc00"/>
                </a:solidFill>
                <a:latin typeface="Times New Roman"/>
              </a:rPr>
              <a:t>magyarra leford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45813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európai magánbiztonsági szolgáltatások magatartási és etikai szabályzata –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gyarra leford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676600"/>
            <a:ext cx="15447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Folyamatban lévő programo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41180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énzszállítás helyzetének elemzése az újonnan csatlakozott országokban (+Portugál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20606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est Value konferenciasorozat 2006 – </a:t>
            </a:r>
            <a:r>
              <a:rPr b="1" lang="hu-HU" sz="2400" spc="-1" strike="noStrike">
                <a:solidFill>
                  <a:srgbClr val="ffcc00"/>
                </a:solidFill>
                <a:latin typeface="Times New Roman"/>
              </a:rPr>
              <a:t>CoESS - UNI-Europa közös pályáz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4960" y="5184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szervezet átalakítása és továbbfejlesz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3127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magánbiztonsági szakképzés továbbfejlesztése - </a:t>
            </a:r>
            <a:r>
              <a:rPr b="1" lang="hu-HU" sz="2400" spc="-1" strike="noStrike">
                <a:solidFill>
                  <a:srgbClr val="ffcc00"/>
                </a:solidFill>
                <a:latin typeface="Times New Roman"/>
              </a:rPr>
              <a:t>CoESS - UNI-Europa közös pályáza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1917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azai eredmény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184464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tív részvétel az Európai ÁPB és az európai érdekképviseleti szervezetek tevékenységé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9113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özös állásfoglalások a szakmát érintő kérdésekben (törvényjavaslat, vállalási ára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39783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gazati Kollektív Szerződés előkész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466416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ánbiztonsági Kutató Központ megalak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527364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gyar magánbiztonsági szektor nemzetközi elismer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2968560"/>
            <a:ext cx="154440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6:30:03Z</dcterms:created>
  <dc:creator>user</dc:creator>
  <dc:description/>
  <dc:language>en-US</dc:language>
  <cp:lastModifiedBy>user</cp:lastModifiedBy>
  <dcterms:modified xsi:type="dcterms:W3CDTF">2007-02-03T16:48:22Z</dcterms:modified>
  <cp:revision>2</cp:revision>
  <dc:subject/>
  <dc:title>Társadalmi Párbeszéd</dc:title>
</cp:coreProperties>
</file>